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6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BAD2-2629-46E8-8D07-9A96EB4CD45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652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4052-BF3E-4771-AA85-F0DBAD42E40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281-B986-44F6-8644-FCF5DC78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BB0-F431-437E-A095-0B64C5E5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EAE-D0F6-4FBD-BF4A-CCC66069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2AA-69CE-40B9-82DA-1642FE61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86E-1E89-48B4-B9EC-3AB3FA35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3AB-56D6-489D-ABBA-5231A80E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C74-2002-452B-9CEA-62BF595B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02A-BE3D-4F0D-9F1F-A8FA548C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5280"/>
            <a:ext cx="6175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06A-1E4A-488B-9A78-6FE86196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B1A-966B-4BF0-9A03-9937D56A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5B5-06B2-4C88-BFC5-790A4082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8AB-BF3E-435A-8E63-4919235A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578354-B58C-4E1A-B6FE-70FE5730CC5F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41720" y="6537240"/>
            <a:ext cx="3403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516480" y="5964120"/>
            <a:ext cx="3341520" cy="38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lezione di 28 componenti del CNSU iscritti ad un corso di laurea,  di laurea magistrale, di laurea magistrale a ciclo unico o a corsi di laurea di precedenti ordina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iversità degli Studi di…….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de di……..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ggio N°…….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rma del Presiden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>
            <a:off x="189000" y="8985240"/>
            <a:ext cx="2171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2"/>
          <p:cNvSpPr/>
          <p:nvPr/>
        </p:nvSpPr>
        <p:spPr>
          <a:xfrm>
            <a:off x="4231440" y="41580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es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e 1"/>
          <p:cNvSpPr/>
          <p:nvPr/>
        </p:nvSpPr>
        <p:spPr>
          <a:xfrm>
            <a:off x="293760" y="4761000"/>
            <a:ext cx="576360" cy="576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egnaposto piè di pagina 1"/>
          <p:cNvSpPr/>
          <p:nvPr/>
        </p:nvSpPr>
        <p:spPr>
          <a:xfrm>
            <a:off x="485640" y="8842320"/>
            <a:ext cx="217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"/>
          <p:cNvSpPr/>
          <p:nvPr/>
        </p:nvSpPr>
        <p:spPr>
          <a:xfrm>
            <a:off x="497160" y="3903840"/>
            <a:ext cx="225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mbolo o cas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vuota in caso di assenza di simbo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052640" y="468936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4"/>
          <p:cNvSpPr/>
          <p:nvPr/>
        </p:nvSpPr>
        <p:spPr>
          <a:xfrm rot="10800000">
            <a:off x="3847680" y="468936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"/>
          <p:cNvSpPr/>
          <p:nvPr/>
        </p:nvSpPr>
        <p:spPr>
          <a:xfrm>
            <a:off x="468360" y="8553600"/>
            <a:ext cx="58323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IMO LEMBO DA PIE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4662360" y="1208160"/>
            <a:ext cx="157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in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3"/>
          <p:cNvSpPr/>
          <p:nvPr/>
        </p:nvSpPr>
        <p:spPr>
          <a:xfrm>
            <a:off x="1052640" y="443700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NOMINAZIONE DELLA L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813120" y="443700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OTO DI PREFERENZA PER UN CANDI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1"/>
          <p:cNvSpPr/>
          <p:nvPr/>
        </p:nvSpPr>
        <p:spPr>
          <a:xfrm>
            <a:off x="297000" y="570060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052640" y="560232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"/>
          <p:cNvSpPr/>
          <p:nvPr/>
        </p:nvSpPr>
        <p:spPr>
          <a:xfrm rot="10800000">
            <a:off x="3847680" y="560232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1"/>
          <p:cNvSpPr/>
          <p:nvPr/>
        </p:nvSpPr>
        <p:spPr>
          <a:xfrm>
            <a:off x="297000" y="654516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052640" y="6473880"/>
            <a:ext cx="2663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4"/>
          <p:cNvSpPr/>
          <p:nvPr/>
        </p:nvSpPr>
        <p:spPr>
          <a:xfrm rot="10800000">
            <a:off x="3847680" y="6473520"/>
            <a:ext cx="2825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47:32Z</dcterms:created>
  <dc:creator>Fabrizio</dc:creator>
  <dc:description/>
  <dc:language>en-US</dc:language>
  <cp:lastModifiedBy>HP</cp:lastModifiedBy>
  <cp:lastPrinted>2019-04-08T14:26:55Z</cp:lastPrinted>
  <dcterms:modified xsi:type="dcterms:W3CDTF">2022-02-15T08:24:53Z</dcterms:modified>
  <cp:revision>82</cp:revision>
  <dc:subject/>
  <dc:title>Diapositiva 1</dc:title>
</cp:coreProperties>
</file>